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5E96-B974-4F6F-A75D-8F5DCB0C8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026E-300D-485A-B43E-98386507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814CE-CBF8-4FEC-B13E-9D179C5208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4198F-D459-49E3-BBA7-CFFA57823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BC2177-5731-4EFE-8D99-03FD6204AD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6EE98-FAF2-4154-918D-85E2F4A24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5858E-FA82-4FDD-8116-7F30ACE05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36E88-82CC-49B8-93C5-666FEE26F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7614B-7FBC-430A-93C9-E54157AD71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75E495-3145-4220-89F5-E46084C3A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36AF7B-4E19-4507-A84A-9DC7C85A64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7E839A-B3FD-473E-BFF6-8F1BE30D8E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7D59B-89DC-4BCC-A769-4A58FF051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D5FB05-2D92-4E07-94B4-78E016B188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102041-71A5-475F-A898-0A198E929D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BD55DE-1409-4E1C-A368-DC3CC7BA8B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D75F99-651B-4E53-86AC-37F219C4EF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E8B735-7376-457A-A7BB-BF727C29E6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DB7A04-07FC-4CC9-A8F6-11E9FE8614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4F793-0B14-4E76-8205-F3FDAE0CA7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59A700-AB24-426A-BB4E-100C15E20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40352E-6959-428A-9EF0-EFFBE841F1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E6D1D3-0D3B-4A03-AA53-C359C2F85D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060C4-237E-40F3-887F-D51EC8B1C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A878F8-21EC-4368-ABB8-728F1B210B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9E088E-A996-4E63-81FA-9D75D3CF8E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A3340E-DAAE-49F9-ADF4-B08C0F56CF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C74764-EFAF-40A8-8635-B1236EEBA4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992095-36E2-49E7-9AF5-7DA52CA9BD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854026-E933-45E3-AEA2-84A514D71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9FE1C3-88C0-4379-A8C0-860918D24E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651E24-49B1-4E02-8B2A-2351FAFFD1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119A74-E3B8-48B3-949C-2590B20415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2F3A01-E590-4503-8EEA-D1ADCB27C0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90277-456F-49BF-A486-FA2BB19D5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C60983-5B43-487B-85E1-B88371F06B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21A9DC-8D1E-4CA5-A02A-839B3A55F1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CCD0A4-A83B-48D8-AC52-B9BEF92A14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B718B8-1828-43D3-AD87-D61CDE5C54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6F31ED-1E1D-4635-8792-B42C1E6DA7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E8388D-F76D-4B91-8713-BB8C1D8FD0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48BBB2-6C9B-4DF2-9205-66107BDF14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441E6D-3F01-4BA5-8747-A1E5AE9BBB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8DB926-F58B-47B4-B7C6-4F265A9D14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0C559D-E2E7-4AB4-BD7F-75A0F0DD36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0EB10-865D-4DFD-B2B2-9D7F3E389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D03465-971D-41C3-A831-7511256D5B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9CD7CB-02B5-4B21-A7F5-F43CB315D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E62E7E-9235-4152-BFE9-E3B4A3F3EC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8D77A0-D90C-4CEC-8EC6-D4486D4308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238293-ED09-4292-9477-C3FB94AAF7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C5EA0E-5F75-494F-AA8D-189DED4362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491C84-D3AB-451D-8DF7-2C5DA1F227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0A3740-F740-4C71-BB6C-D0E467C59A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B4F39C-EE35-441B-B568-83CCC389D8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74BA3A-79C1-4AD1-B1AA-DEB01DEDC5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C7A8-F396-48E7-A89B-C4BDB808D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9A761D-27EF-438B-ACEB-46B04F13E1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F42ED1-CE15-4701-AF58-5F93F0AE08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0066CB-5651-4A95-9C84-1E46E8DAB2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F41CCA-1AE8-4C82-8064-CD362EF894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532833-992E-4BCF-AC3B-853212C37B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5AFBAE-4883-4075-9F0E-C186D3C0AE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C00D79-C4FC-4675-9AA7-61E04491C4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144245E-FDA7-4137-9846-5DCE88871C2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6CEB39-7F7A-4482-BF06-06B2F881DE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55971B-8D08-454E-96FF-06F12C1C6E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3FB76-D9C7-4BBC-9256-5AE7B6D9E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4FF0B1-8EA0-41C1-8C51-72D8558E1D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666EDF-219B-4AE1-9A28-1ECC6373A8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8B1C4E-AD27-4703-BC55-2ED2A0AE99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6F0571-3A25-42A1-9006-C753FC3EF1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7DBA34-F420-4AE0-8905-9F84D4ABAC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328467-9B69-452C-B39A-2B6621CC5A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F916FE-FF34-4FDC-8896-3542D0EEF7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F63142-74EF-4760-A9CD-484968AC65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99D6D4-1BD7-469D-A549-246C763DEA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F0F5422-B37A-4441-A3C7-3131144816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06596-53FE-428C-B35F-3385D4807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FA6881-DD81-4580-AEB0-75B9CF49F0E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1C0453-15EA-453D-BBFB-F06F31E447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2CD229-B9F3-49F7-B253-12D8EC16A7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511841-DB11-4CCD-B2C6-56531FFF2B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665C5B-9004-4FF1-85DF-B28E547026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6F6914-9561-41C0-8792-3B739355C2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E73171-C4E4-4A0A-99F8-D36B59FD6F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DDEFA2-2662-43F5-9268-C61D757128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6A6866-4E52-4E64-B833-963769B814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9FB8F3-3160-492A-B93D-0CAC4F9A5D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F0F29-406B-43B9-B32A-32DABD4BB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818EE75-05E5-4697-8E3F-CECD048E9A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DF31C8-91D0-49B4-A72A-78E1FE8F059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660DDC-E6BF-4ED8-906C-D1ECDE04DF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527E58-091C-40CC-B70E-C259104F93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9F6419-7DF8-4967-8AB6-BAB289A2050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1214C8-99D8-4A16-B21A-79A3F663FE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9206F6-479A-4785-9330-B913D34D9F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387B7A-2BC3-43CF-B37B-B65EA93BE7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3EC5CF-8D7D-4D40-B11E-6641412A6C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47FA82-7DE6-45C5-BBDB-6A9AB1EEE6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E5AAA-1513-4030-A4DF-82B8ECF2A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69291D-1DBA-4837-8197-10C04DAB00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BAA1D8B-BF6C-47DF-9E2F-499C8A495B8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E6E9A9-570A-4422-8B6E-9A122873A8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DE94CF-E808-4C5A-9E8A-4B85832D2FA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B62102-69CF-4024-8FE9-7CCC5DEDEB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2E21964-5269-49D6-A818-E4B2773278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4B5158-43FC-4867-9672-129A386979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29A63F-4D10-4F63-9784-EE33B93757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3F9896-80FE-4242-B322-9DBD2C08F8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4A110D-B459-4C39-8EEF-55BADB674A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0C79-6E4D-4860-881A-5789C1D5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703F0-A15C-4A2C-927A-D23E84CB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4C9976-E1BE-4747-AEF2-ADEA410BC0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1DAAB6-F6A9-427F-88AF-1C18CF2899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50FAFB-5B54-42A5-A009-06F8F7A1D6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1E892BE-D29F-4A88-97C4-70302A392E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A1D11B3-FBCE-4741-9C0D-9FAAE2B654B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2781-5EB7-47AB-AD4D-66F6805AA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485C3-C202-4451-B4DD-3551C98F2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9ED2D-C604-4C7D-B2A2-ED01686E5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51546-4D5C-4719-AB7E-3C07E1C8A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0CCBA1-0DA2-41BB-8B5F-8BE77AE8A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FF481-C566-41C9-8467-0CA4B33A5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69734-D931-482A-BDE6-76C92F3BE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35A9D-F36D-437C-B165-F5D79CC03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00481-4489-41F0-9623-3643AEEA8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B108-8F0A-4A13-AA1E-D828FFFF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B5315-2AB1-412E-B8BD-14E863465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A8600-3DD7-4E6C-8378-D52FAD209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4066B-058A-45A4-84B3-7569475B7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0D426-45CA-43C0-B389-5979D502D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56E42-3436-4B53-AE88-DA83114DA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0B8C1-E0A9-4C64-95BF-A8E3422E90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DBAA8D-2822-48DC-B731-8ACBB88D3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3CD56D-3584-4DC5-8851-1F98E5E080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A58E9-85C4-4517-94DA-15AC30BC0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930CC-ABDC-41F8-905A-0D8886688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763C7-FA96-4D5A-9E00-60BFF7AA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A6AB2-33D4-49B2-A832-50DF69190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6D5A3-3040-4ABF-8344-ED01DA321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7F5D3-4779-4988-B25E-A193A070C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043BC-68F1-4478-8DD7-776F5D381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86CC4-B2C2-4E7F-B8F8-1324B5DB6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B12E8-6C5C-40FF-9DC3-7ED52189F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F3A7B8-7C5B-46A3-8C9D-05AB2D347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F6895-7A27-4CCF-8E84-68704DC82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68BAFF-2A73-4093-8041-6D461FD5B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F1BA04-BBF3-4952-8EA9-A9F3F3385D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7FF81-FF4C-4AD1-B7B8-93ADAEF9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D79CE-461C-4614-9679-01E73BB69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783B1-2E45-44AC-B606-8844A8F6C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03AA19-52EB-4834-A0D7-83DD07FD5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2F8C1-F80F-4D36-9080-49F38CF98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0ACAD-B63B-4092-A2AE-7A8CFC1BD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046BB-FBEE-4672-B616-12732579B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3A989-3C51-4DA3-94B7-812A20B43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81239-4FEB-472C-97AF-FAD997BEE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7CCEE-85F3-4465-89C7-4477D019C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5C79F6-175B-46CC-A81C-9212596F3C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894C-07DD-4152-A1E7-595058EB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2EACD0-D3F3-4DB9-AC8E-5575465BE4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8AD3E0-0BCD-4B4B-8A38-F8F4CC8565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3DE79-253F-4E02-98DF-512DD6267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F9555-5150-4E5B-9B02-57F6C0BC6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145A7C-4901-41D3-B161-93EA0780D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7C386-5462-4DB8-8A61-94E9E8A40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146703-039E-470C-A605-A009BA9FB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C796C-0774-4ED1-B3C7-60FE3DC19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264F5-8950-42BE-A920-F02509F07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40BEA-553C-452E-83C9-D587235A5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374F-895C-474E-B8CF-09E97992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A19BC-590C-4435-AB26-D175B2294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82B865-1105-4C66-BF7C-835FF7D31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1B46F9-11E9-4AD9-9F6C-F605A5D414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3554E-F29F-4EC8-B9C9-A2D5DF5C9D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2D3DD-F7F2-4B86-BCE3-E4F8EB09B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184DE-AD68-446E-8C8E-75B810A26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D033A-F2A9-4FBC-919C-3B5A68804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7BBBD-7030-4812-BAF0-8520DFC45F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6B30D5-B3B0-4DFE-8E10-639A7CE19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63EE2-1E11-4FDD-BA3C-E25D3B728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C3EA-B070-4C38-93A5-C821284B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5ACBF-EC30-490B-A56B-5578E500B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014DB7-2CBE-4122-8C7A-B5CBCDA79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09F50-BF9D-4ACD-90B4-658BD827E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D8AC6-9C26-4B95-91AE-1B55E94C6A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5F36B-AD61-4ABA-BD19-164FAEBA85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9F2A9B-B870-483E-9292-C59713A50B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A1D29-FA76-4DD4-8919-BD2A88C3A8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D8719-2E1D-48FA-B46E-FC76C212BB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48AD6-D0F5-4E90-A257-CC30C3AD5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2F1B5-291B-44AA-B56F-12D6D649F0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5465-67C7-481E-8C74-20222111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6D57F-1BB2-481D-BBB0-DB75052D8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319A1-75BD-481D-80B4-0E74A752E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94CF4-F4CC-4325-AF41-265529AA0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59B3F-930C-459A-9466-C5B38868A9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1322D4-404C-4623-B1F1-1A9966F03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1C8312-561C-46D3-B70D-DDB89D59AE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5E206A-B0BF-47A9-96FD-E274155A4F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92E776-F476-4969-90B4-5941888924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20EA7-1FA2-42B2-B2B3-3568E75143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40840-7FCA-4D17-991F-65EF90F5A9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51094-EED8-474A-8AAD-60314BFAF36B}"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0CB4F-A9BC-45B2-9587-4D92951B6EA6}"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C020F-4315-4D69-898C-5E51B9951E8D}"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DAC60-8C6E-4C6E-9C94-AAAFACFAAD73}"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99876-4851-4DC9-9BEB-C03768298C69}"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B8EFC-776D-4160-94C4-F35F7686FA9C}"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177B2-F6FC-4666-BDC2-2384F1D90D0D}"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FABEA-8353-4384-9F88-9B5FD6165E09}"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C7006-1DE0-4FE9-83E9-6247002F82B6}"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D0A20-7B97-4D7C-A6C3-24BE284BE118}"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7A5E4-011C-413F-930E-DDD7B9FAB712}"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9E381-56E6-42D7-AB82-30E6D4650C36}"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9C5FA-772C-4393-B468-B6A59E7E0931}"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12048-A2D7-4342-8B6F-262CE68465CE}"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A2933-AEA1-425C-81AD-CB5BF576F5E8}"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1F60A-DACA-457B-B909-0826719C06EE}"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233CE-7647-45A3-A378-BB5DF2E8311A}"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157760"/>
            <a:ext cx="7772400" cy="331164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00"/>
                </a:solidFill>
                <a:latin typeface="Corbel"/>
              </a:rPr>
              <a:t>Citizenship, Mental Health, and the Citizens Project</a:t>
            </a:r>
            <a:endParaRPr b="0" lang="en-US" sz="4200" spc="-1" strike="noStrike">
              <a:solidFill>
                <a:srgbClr val="ffffff"/>
              </a:solidFill>
              <a:latin typeface="Corbel"/>
            </a:endParaRPr>
          </a:p>
        </p:txBody>
      </p:sp>
      <p:sp>
        <p:nvSpPr>
          <p:cNvPr id="780" name="PlaceHolder 2"/>
          <p:cNvSpPr>
            <a:spLocks noGrp="1"/>
          </p:cNvSpPr>
          <p:nvPr>
            <p:ph type="subTitle"/>
          </p:nvPr>
        </p:nvSpPr>
        <p:spPr>
          <a:xfrm>
            <a:off x="685800" y="3197160"/>
            <a:ext cx="3478320" cy="193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Michael Rowe, Ph.D. </a:t>
            </a:r>
            <a:endParaRPr b="0" lang="en-US" sz="2400" spc="-1" strike="noStrike">
              <a:solidFill>
                <a:srgbClr val="262626"/>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Patricia Benedict, B.A. </a:t>
            </a:r>
            <a:endParaRPr b="0" lang="en-US" sz="2400" spc="-1" strike="noStrike">
              <a:solidFill>
                <a:srgbClr val="262626"/>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Calibri"/>
              </a:rPr>
              <a:t>Yale Program for Recovery and Community Health </a:t>
            </a:r>
            <a:endParaRPr b="0" lang="en-US" sz="2400" spc="-1" strike="noStrike">
              <a:solidFill>
                <a:srgbClr val="262626"/>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1" name="TextBox 5"/>
          <p:cNvSpPr/>
          <p:nvPr/>
        </p:nvSpPr>
        <p:spPr>
          <a:xfrm>
            <a:off x="152280" y="6364440"/>
            <a:ext cx="87076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 on this presentation was funded in part by NIMH grant R21 #MH08776201</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Social Inclusion and Mental Illness: Outcome Measure Development </a:t>
            </a:r>
            <a:endParaRPr b="0" lang="en-US" sz="1200" spc="-1" strike="noStrike">
              <a:solidFill>
                <a:srgbClr val="000000"/>
              </a:solidFill>
              <a:latin typeface="Arial"/>
            </a:endParaRPr>
          </a:p>
        </p:txBody>
      </p:sp>
      <p:pic>
        <p:nvPicPr>
          <p:cNvPr id="782" name="Picture 4" descr="citizenship image .jpg"/>
          <p:cNvPicPr/>
          <p:nvPr/>
        </p:nvPicPr>
        <p:blipFill>
          <a:blip r:embed="rId1"/>
          <a:stretch/>
        </p:blipFill>
        <p:spPr>
          <a:xfrm>
            <a:off x="4659480" y="2954160"/>
            <a:ext cx="3746160" cy="314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do we define citizenship?</a:t>
            </a:r>
            <a:endParaRPr b="0" lang="en-US" sz="4200" spc="-1" strike="noStrike">
              <a:solidFill>
                <a:srgbClr val="ffffff"/>
              </a:solidFill>
              <a:latin typeface="Corbel"/>
            </a:endParaRPr>
          </a:p>
        </p:txBody>
      </p:sp>
      <p:sp>
        <p:nvSpPr>
          <p:cNvPr id="808" name=""/>
          <p:cNvSpPr txBox="1"/>
          <p:nvPr/>
        </p:nvSpPr>
        <p:spPr>
          <a:xfrm>
            <a:off x="1781280" y="2133720"/>
            <a:ext cx="7076880" cy="3992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is: </a:t>
            </a:r>
            <a:endParaRPr b="0" lang="en-US" sz="2600" spc="-1" strike="noStrike">
              <a:solidFill>
                <a:srgbClr val="262626"/>
              </a:solidFill>
              <a:latin typeface="Calibri"/>
            </a:endParaRPr>
          </a:p>
          <a:p>
            <a:pPr>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 strong connection to the 5 Rs of </a:t>
            </a:r>
            <a:r>
              <a:rPr b="0" i="1" lang="en-US" sz="2600" spc="-1" strike="noStrike">
                <a:solidFill>
                  <a:srgbClr val="262626"/>
                </a:solidFill>
                <a:latin typeface="Calibri"/>
              </a:rPr>
              <a:t>rights, responsibilities</a:t>
            </a:r>
            <a:r>
              <a:rPr b="0" lang="en-US" sz="2600" spc="-1" strike="noStrike">
                <a:solidFill>
                  <a:srgbClr val="262626"/>
                </a:solidFill>
                <a:latin typeface="Calibri"/>
              </a:rPr>
              <a:t>, </a:t>
            </a:r>
            <a:r>
              <a:rPr b="0" i="1" lang="en-US" sz="2600" spc="-1" strike="noStrike">
                <a:solidFill>
                  <a:srgbClr val="262626"/>
                </a:solidFill>
                <a:latin typeface="Calibri"/>
              </a:rPr>
              <a:t>roles &amp; resources</a:t>
            </a:r>
            <a:r>
              <a:rPr b="0" lang="en-US" sz="2600" spc="-1" strike="noStrike">
                <a:solidFill>
                  <a:srgbClr val="262626"/>
                </a:solidFill>
                <a:latin typeface="Calibri"/>
              </a:rPr>
              <a:t> that society offers its members, &amp;  </a:t>
            </a:r>
            <a:r>
              <a:rPr b="0" i="1" lang="en-US" sz="2600" spc="-1" strike="noStrike">
                <a:solidFill>
                  <a:srgbClr val="262626"/>
                </a:solidFill>
                <a:latin typeface="Calibri"/>
              </a:rPr>
              <a:t>relationships</a:t>
            </a:r>
            <a:r>
              <a:rPr b="0" lang="en-US" sz="2600" spc="-1" strike="noStrike">
                <a:solidFill>
                  <a:srgbClr val="262626"/>
                </a:solidFill>
                <a:latin typeface="Calibri"/>
              </a:rPr>
              <a:t> including friends &amp; supportive social networks.  </a:t>
            </a:r>
            <a:endParaRPr b="0" lang="en-US" sz="2600" spc="-1" strike="noStrike">
              <a:solidFill>
                <a:srgbClr val="262626"/>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and</a:t>
            </a:r>
            <a:endParaRPr b="0" lang="en-US" sz="2600" spc="-1" strike="noStrike">
              <a:solidFill>
                <a:srgbClr val="262626"/>
              </a:solidFill>
              <a:latin typeface="Calibri"/>
            </a:endParaRPr>
          </a:p>
          <a:p>
            <a:pPr>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 sense of belonging that is validated by others.</a:t>
            </a:r>
            <a:endParaRPr b="0" lang="en-US" sz="26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09"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 y="53172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What about the mental distress part of citizenship?  </a:t>
            </a:r>
            <a:endParaRPr b="0" lang="en-US" sz="3800" spc="-1" strike="noStrike">
              <a:solidFill>
                <a:srgbClr val="ffffff"/>
              </a:solidFill>
              <a:latin typeface="Corbel"/>
            </a:endParaRPr>
          </a:p>
        </p:txBody>
      </p:sp>
      <p:sp>
        <p:nvSpPr>
          <p:cNvPr id="811" name=""/>
          <p:cNvSpPr txBox="1"/>
          <p:nvPr/>
        </p:nvSpPr>
        <p:spPr>
          <a:xfrm>
            <a:off x="187920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itizenship is citizenship, not “psychiatric citizenship.” </a:t>
            </a: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itizenship for people with lived experience of mental distress implies their full participation in and access to the goods and opportunities of society.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 . . What do we do with citizenship?</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2" name="Picture 4" descr="citizenship image .jpg"/>
          <p:cNvPicPr/>
          <p:nvPr/>
        </p:nvPicPr>
        <p:blipFill>
          <a:blip r:embed="rId1"/>
          <a:srcRect l="15833" t="0" r="28825" b="0"/>
          <a:stretch/>
        </p:blipFill>
        <p:spPr>
          <a:xfrm>
            <a:off x="187200" y="1809720"/>
            <a:ext cx="1643040" cy="474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139680"/>
            <a:ext cx="8680680" cy="144936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Citizens Project </a:t>
            </a:r>
            <a:endParaRPr b="0" lang="en-US" sz="3600" spc="-1" strike="noStrike">
              <a:solidFill>
                <a:srgbClr val="ffffff"/>
              </a:solidFill>
              <a:latin typeface="Corbel"/>
            </a:endParaRPr>
          </a:p>
        </p:txBody>
      </p:sp>
      <p:sp>
        <p:nvSpPr>
          <p:cNvPr id="814" name=""/>
          <p:cNvSpPr txBox="1"/>
          <p:nvPr/>
        </p:nvSpPr>
        <p:spPr>
          <a:xfrm>
            <a:off x="1982880" y="1828800"/>
            <a:ext cx="6564240" cy="48895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signed to assist students with…</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ing and exercising their right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ways to fulfill their goals &amp; responsibiliti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roles as valued members of their communiti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knowledge &amp; access of community resourc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ability to develop supportive relationships </a:t>
            </a:r>
            <a:r>
              <a:rPr b="1" lang="en-US" sz="2400" spc="-1" strike="noStrike">
                <a:solidFill>
                  <a:srgbClr val="000000"/>
                </a:solidFill>
                <a:latin typeface="Calibri"/>
              </a:rPr>
              <a:t> </a:t>
            </a:r>
            <a:r>
              <a:rPr b="0" lang="en-US" sz="2400" spc="-1" strike="noStrike">
                <a:solidFill>
                  <a:srgbClr val="000000"/>
                </a:solidFill>
                <a:latin typeface="Calibri"/>
              </a:rPr>
              <a:t>and</a:t>
            </a:r>
            <a:r>
              <a:rPr b="1" lang="en-US" sz="2400" spc="-1" strike="noStrike">
                <a:solidFill>
                  <a:srgbClr val="000000"/>
                </a:solidFill>
                <a:latin typeface="Calibri"/>
              </a:rPr>
              <a:t> </a:t>
            </a:r>
            <a:r>
              <a:rPr b="0" lang="en-US" sz="2400" spc="-1" strike="noStrike">
                <a:solidFill>
                  <a:srgbClr val="000000"/>
                </a:solidFill>
                <a:latin typeface="Calibri"/>
              </a:rPr>
              <a:t>networks</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skills to aid in their process of recovery</a:t>
            </a:r>
            <a:endParaRPr b="0" lang="en-US" sz="2400" spc="-1" strike="noStrike">
              <a:solidFill>
                <a:srgbClr val="262626"/>
              </a:solidFill>
              <a:latin typeface="Calibri"/>
            </a:endParaRPr>
          </a:p>
          <a:p>
            <a:pPr marL="339480" indent="-3394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15"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What do Students Receive?</a:t>
            </a:r>
            <a:endParaRPr b="0" lang="en-US" sz="4200" spc="-1" strike="noStrike">
              <a:solidFill>
                <a:srgbClr val="ffffff"/>
              </a:solidFill>
              <a:latin typeface="Corbel"/>
            </a:endParaRPr>
          </a:p>
        </p:txBody>
      </p:sp>
      <p:sp>
        <p:nvSpPr>
          <p:cNvPr id="817" name=""/>
          <p:cNvSpPr txBox="1"/>
          <p:nvPr/>
        </p:nvSpPr>
        <p:spPr>
          <a:xfrm>
            <a:off x="1685520" y="2133720"/>
            <a:ext cx="8312040" cy="3992400"/>
          </a:xfrm>
          <a:prstGeom prst="rect">
            <a:avLst/>
          </a:prstGeom>
          <a:noFill/>
          <a:ln w="0">
            <a:noFill/>
          </a:ln>
        </p:spPr>
        <p:txBody>
          <a:bodyPr anchor="t">
            <a:normAutofit/>
          </a:bodyPr>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tual support group students coined “What’s Up”</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er Support inside and outside the class room; </a:t>
            </a:r>
            <a:endParaRPr b="0" lang="en-US" sz="2600" spc="-1" strike="noStrike">
              <a:solidFill>
                <a:srgbClr val="262626"/>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n-traditional classes geared towards the 5 R’s </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ghts, Roles, Responsibilities, Resources, and Relationships. </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 or group Valued Role Project </a:t>
            </a:r>
            <a:endParaRPr b="0" lang="en-US" sz="2600" spc="-1" strike="noStrike">
              <a:solidFill>
                <a:srgbClr val="262626"/>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marL="343080" indent="-3430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18" name="Picture 3" descr="citizenship image .jpg"/>
          <p:cNvPicPr/>
          <p:nvPr/>
        </p:nvPicPr>
        <p:blipFill>
          <a:blip r:embed="rId1"/>
          <a:srcRect l="0" t="0" r="64826" b="0"/>
          <a:stretch/>
        </p:blipFill>
        <p:spPr>
          <a:xfrm>
            <a:off x="0" y="2133720"/>
            <a:ext cx="14968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83680" y="298440"/>
            <a:ext cx="8574120" cy="130032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What is “What’s Up?”</a:t>
            </a:r>
            <a:endParaRPr b="0" lang="en-US" sz="4200" spc="-1" strike="noStrike">
              <a:solidFill>
                <a:srgbClr val="ffffff"/>
              </a:solidFill>
              <a:latin typeface="Corbel"/>
            </a:endParaRPr>
          </a:p>
        </p:txBody>
      </p:sp>
      <p:sp>
        <p:nvSpPr>
          <p:cNvPr id="820" name=""/>
          <p:cNvSpPr txBox="1"/>
          <p:nvPr/>
        </p:nvSpPr>
        <p:spPr>
          <a:xfrm>
            <a:off x="1400040" y="1941120"/>
            <a:ext cx="7575840" cy="4708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at is</a:t>
            </a:r>
            <a:endParaRPr b="0" lang="en-US" sz="2400" spc="-1" strike="noStrike">
              <a:solidFill>
                <a:srgbClr val="262626"/>
              </a:solidFill>
              <a:latin typeface="Calibri"/>
            </a:endParaRPr>
          </a:p>
          <a:p>
            <a:pPr lvl="1" marL="46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 created and facilitated support group:</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aring of personal challenges and accomplishments</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ving honest supportive and constructive feedback from classmates and staff</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idential and safe environment</a:t>
            </a: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t>
            </a:r>
            <a:r>
              <a:rPr b="1" lang="en-US" sz="2200" spc="-1" strike="noStrike">
                <a:solidFill>
                  <a:srgbClr val="000000"/>
                </a:solidFill>
                <a:latin typeface="Arial"/>
                <a:ea typeface="Times New Roman"/>
              </a:rPr>
              <a:t>I learned how to talk to people, listen better and deal with my problems”…CP student</a:t>
            </a:r>
            <a:endParaRPr b="0" lang="en-US" sz="2200" spc="-1" strike="noStrike">
              <a:solidFill>
                <a:srgbClr val="262626"/>
              </a:solidFill>
              <a:latin typeface="Calibri"/>
            </a:endParaRPr>
          </a:p>
          <a:p>
            <a:pPr lvl="3" marL="11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What’s Up?”</a:t>
            </a:r>
            <a:endParaRPr b="0" lang="en-US" sz="2200" spc="-1" strike="noStrike">
              <a:solidFill>
                <a:srgbClr val="262626"/>
              </a:solidFill>
              <a:latin typeface="Calibri"/>
            </a:endParaRPr>
          </a:p>
        </p:txBody>
      </p:sp>
      <p:pic>
        <p:nvPicPr>
          <p:cNvPr id="821"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 </a:t>
            </a:r>
            <a:r>
              <a:rPr b="1" lang="en-US" sz="4200" spc="-1" strike="noStrike">
                <a:solidFill>
                  <a:srgbClr val="ffffff"/>
                </a:solidFill>
                <a:latin typeface="Corbel"/>
              </a:rPr>
              <a:t>Some of our Classes</a:t>
            </a:r>
            <a:endParaRPr b="0" lang="en-US" sz="4200" spc="-1" strike="noStrike">
              <a:solidFill>
                <a:srgbClr val="ffffff"/>
              </a:solidFill>
              <a:latin typeface="Corbel"/>
            </a:endParaRPr>
          </a:p>
        </p:txBody>
      </p:sp>
      <p:sp>
        <p:nvSpPr>
          <p:cNvPr id="823" name=""/>
          <p:cNvSpPr txBox="1"/>
          <p:nvPr/>
        </p:nvSpPr>
        <p:spPr>
          <a:xfrm>
            <a:off x="402840" y="2151000"/>
            <a:ext cx="3932280" cy="3975120"/>
          </a:xfrm>
          <a:prstGeom prst="rect">
            <a:avLst/>
          </a:prstGeom>
          <a:noFill/>
          <a:ln w="0">
            <a:noFill/>
          </a:ln>
        </p:spPr>
        <p:txBody>
          <a:bodyPr anchor="t">
            <a:normAutofit fontScale="70000"/>
          </a:bodyPr>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Skill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Health</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onship Building</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Alternative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ng the Criminal Justice System</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ing Options and Issue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Skills &amp; Education</a:t>
            </a:r>
            <a:endParaRPr b="0" lang="en-US" sz="28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Communication Skill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Financial Health</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Relationship Building</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Healthy Alternative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Negotiating the Criminal Justice System</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Housing Options and Issue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Vocational Skills &amp; Education</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62626"/>
              </a:solidFill>
              <a:latin typeface="Calibri"/>
            </a:endParaRPr>
          </a:p>
        </p:txBody>
      </p:sp>
      <p:sp>
        <p:nvSpPr>
          <p:cNvPr id="824" name=""/>
          <p:cNvSpPr txBox="1"/>
          <p:nvPr/>
        </p:nvSpPr>
        <p:spPr>
          <a:xfrm>
            <a:off x="4777920" y="2151000"/>
            <a:ext cx="3932280" cy="4518000"/>
          </a:xfrm>
          <a:prstGeom prst="rect">
            <a:avLst/>
          </a:prstGeom>
          <a:noFill/>
          <a:ln w="0">
            <a:noFill/>
          </a:ln>
        </p:spPr>
        <p:txBody>
          <a:bodyPr anchor="t">
            <a:normAutofit fontScale="99000"/>
          </a:bodyPr>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rituality</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gma and Micro-aggressions</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ocacy </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Development</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Speaking</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Matters</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ting and the Legislative Process</a:t>
            </a:r>
            <a:endParaRPr b="0" lang="en-US" sz="2800" spc="-1" strike="noStrike">
              <a:solidFill>
                <a:srgbClr val="262626"/>
              </a:solidFill>
              <a:latin typeface="Calibri"/>
            </a:endParaRPr>
          </a:p>
          <a:p>
            <a:pPr marL="339480" indent="-33948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r>
              <a:rPr b="1" lang="en-US" sz="1600" spc="-1" strike="noStrike">
                <a:solidFill>
                  <a:srgbClr val="000000"/>
                </a:solidFill>
                <a:latin typeface="Arial"/>
                <a:ea typeface="Times New Roman"/>
              </a:rPr>
              <a:t>I learned how to advocate for myself, it gave me the courage to go back to school.”...CP student</a:t>
            </a:r>
            <a:endParaRPr b="0" lang="en-US" sz="1600" spc="-1" strike="noStrike">
              <a:solidFill>
                <a:srgbClr val="262626"/>
              </a:solidFill>
              <a:latin typeface="Calibri"/>
            </a:endParaRPr>
          </a:p>
          <a:p>
            <a:pPr marL="339480" indent="-33948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Valued Role Projects</a:t>
            </a:r>
            <a:endParaRPr b="0" lang="en-US" sz="4200" spc="-1" strike="noStrike">
              <a:solidFill>
                <a:srgbClr val="ffffff"/>
              </a:solidFill>
              <a:latin typeface="Corbel"/>
            </a:endParaRPr>
          </a:p>
        </p:txBody>
      </p:sp>
      <p:sp>
        <p:nvSpPr>
          <p:cNvPr id="826" name=""/>
          <p:cNvSpPr txBox="1"/>
          <p:nvPr/>
        </p:nvSpPr>
        <p:spPr>
          <a:xfrm>
            <a:off x="450720" y="2027160"/>
            <a:ext cx="8242560" cy="4532400"/>
          </a:xfrm>
          <a:prstGeom prst="rect">
            <a:avLst/>
          </a:prstGeom>
          <a:noFill/>
          <a:ln w="0">
            <a:noFill/>
          </a:ln>
        </p:spPr>
        <p:txBody>
          <a:bodyPr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developed individual or group projects</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ing their talents, knowledge, skills and life experiences challenging their own and others underestimation of their capabilities </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ng and sharing with others</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meaningful social roles for themselves that contribute to their community</a:t>
            </a:r>
            <a:endParaRPr b="0" lang="en-US" sz="2800" spc="-1" strike="noStrike">
              <a:solidFill>
                <a:srgbClr val="262626"/>
              </a:solidFill>
              <a:latin typeface="Calibri"/>
            </a:endParaRPr>
          </a:p>
          <a:p>
            <a:pPr marL="343080" indent="-34308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This group has made me realize that I have good qualities and I can contribute to my community.”…CP student</a:t>
            </a:r>
            <a:br>
              <a:rPr sz="2000"/>
            </a:br>
            <a:r>
              <a:rPr b="1" lang="en-US" sz="2000" spc="-1" strike="noStrike">
                <a:solidFill>
                  <a:srgbClr val="000000"/>
                </a:solidFill>
                <a:latin typeface="Arial"/>
              </a:rPr>
              <a:t> </a:t>
            </a:r>
            <a:endParaRPr b="0" lang="en-US" sz="2000" spc="-1" strike="noStrike">
              <a:solidFill>
                <a:srgbClr val="262626"/>
              </a:solidFill>
              <a:latin typeface="Calibri"/>
            </a:endParaRPr>
          </a:p>
          <a:p>
            <a:pPr marL="343080" indent="-34308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rbel"/>
              </a:rPr>
              <a:t>Who can benefit from a Citizens Project? </a:t>
            </a:r>
            <a:endParaRPr b="0" lang="en-US" sz="3800" spc="-1" strike="noStrike">
              <a:solidFill>
                <a:srgbClr val="ffffff"/>
              </a:solidFill>
              <a:latin typeface="Corbel"/>
            </a:endParaRPr>
          </a:p>
        </p:txBody>
      </p:sp>
      <p:sp>
        <p:nvSpPr>
          <p:cNvPr id="828" name=""/>
          <p:cNvSpPr txBox="1"/>
          <p:nvPr/>
        </p:nvSpPr>
        <p:spPr>
          <a:xfrm>
            <a:off x="1242720" y="2265480"/>
            <a:ext cx="7900920" cy="4192560"/>
          </a:xfrm>
          <a:prstGeom prst="rect">
            <a:avLst/>
          </a:prstGeom>
          <a:noFill/>
          <a:ln w="0">
            <a:noFill/>
          </a:ln>
        </p:spPr>
        <p:txBody>
          <a:bodyPr anchor="t">
            <a:normAutofit/>
          </a:bodyPr>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ith Mental Health Issues</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ith Addictions </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ho are the process of re-entering society,(incarceration, in-patient treatment)</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eld inside a program or in the community  </a:t>
            </a:r>
            <a:endParaRPr b="0" lang="en-US" sz="2600" spc="-1" strike="noStrike">
              <a:solidFill>
                <a:srgbClr val="262626"/>
              </a:solidFill>
              <a:latin typeface="Calibri"/>
            </a:endParaRPr>
          </a:p>
          <a:p>
            <a:pPr lvl="2" marL="1149480" indent="-3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lvl="2" marL="1149480" indent="-34308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lication of a Citizens Project is based on the needs and culture of the individual community. </a:t>
            </a:r>
            <a:endParaRPr b="0" lang="en-US" sz="26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29"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Results: Randomized trial of the Citizens Project </a:t>
            </a:r>
            <a:endParaRPr b="0" lang="en-US" sz="3200" spc="-1" strike="noStrike">
              <a:solidFill>
                <a:srgbClr val="ffffff"/>
              </a:solidFill>
              <a:latin typeface="Corbel"/>
            </a:endParaRPr>
          </a:p>
        </p:txBody>
      </p:sp>
      <p:sp>
        <p:nvSpPr>
          <p:cNvPr id="831" name=""/>
          <p:cNvSpPr txBox="1"/>
          <p:nvPr/>
        </p:nvSpPr>
        <p:spPr>
          <a:xfrm>
            <a:off x="1889280" y="2133720"/>
            <a:ext cx="7076880" cy="3992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Project participants, compared to a usual services group, had significantly: </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Lower drug use at 6 months &amp; significantly lower drug &amp; alcohol use at 12-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quality of life at 12 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satisfaction with work at 6- &amp; 12-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of satisfaction with finances at 6 months. </a:t>
            </a:r>
            <a:r>
              <a:rPr b="0" lang="en-US" sz="2500" spc="-1" strike="noStrike">
                <a:solidFill>
                  <a:srgbClr val="262626"/>
                </a:solidFill>
                <a:latin typeface="Calibri"/>
              </a:rPr>
              <a:t> </a:t>
            </a:r>
            <a:endParaRPr b="0" lang="en-US" sz="25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p:txBody>
      </p:sp>
      <p:pic>
        <p:nvPicPr>
          <p:cNvPr id="832"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Results: Observational, Qualitative Research</a:t>
            </a:r>
            <a:endParaRPr b="0" lang="en-US" sz="3200" spc="-1" strike="noStrike">
              <a:solidFill>
                <a:srgbClr val="ffffff"/>
              </a:solidFill>
              <a:latin typeface="Corbel"/>
            </a:endParaRPr>
          </a:p>
        </p:txBody>
      </p:sp>
      <p:sp>
        <p:nvSpPr>
          <p:cNvPr id="834" name=""/>
          <p:cNvSpPr txBox="1"/>
          <p:nvPr/>
        </p:nvSpPr>
        <p:spPr>
          <a:xfrm>
            <a:off x="1889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For Citizens Project participants, “being a student” is a valued role in itself</a:t>
            </a:r>
            <a:endParaRPr b="0" lang="en-US" sz="2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The Citizens Project becomes a supportive community over time for each group and across groups over time. It’s a program, but it’s more than a program. </a:t>
            </a:r>
            <a:endParaRPr b="0" lang="en-US" sz="25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35"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Where Did Citizenship Come From? </a:t>
            </a:r>
            <a:endParaRPr b="0" lang="en-US" sz="3400" spc="-1" strike="noStrike">
              <a:solidFill>
                <a:srgbClr val="ffffff"/>
              </a:solidFill>
              <a:latin typeface="Corbel"/>
            </a:endParaRPr>
          </a:p>
        </p:txBody>
      </p:sp>
      <p:sp>
        <p:nvSpPr>
          <p:cNvPr id="784" name=""/>
          <p:cNvSpPr txBox="1"/>
          <p:nvPr/>
        </p:nvSpPr>
        <p:spPr>
          <a:xfrm>
            <a:off x="604800" y="2011320"/>
            <a:ext cx="6305760" cy="3975120"/>
          </a:xfrm>
          <a:prstGeom prst="rect">
            <a:avLst/>
          </a:prstGeom>
          <a:noFill/>
          <a:ln w="0">
            <a:noFill/>
          </a:ln>
        </p:spPr>
        <p:txBody>
          <a:bodyPr anchor="t">
            <a:normAutofit/>
          </a:bodyPr>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came from a social &amp; economic situation—homelessness in America— </a:t>
            </a:r>
            <a:endParaRPr b="0" lang="en-US" sz="2600" spc="-1" strike="noStrike">
              <a:solidFill>
                <a:srgbClr val="262626"/>
              </a:solidFill>
              <a:latin typeface="Calibri"/>
            </a:endParaRPr>
          </a:p>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from a programmatic response to homelessness among people with mental distress,</a:t>
            </a:r>
            <a:endParaRPr b="0" lang="en-US" sz="2600" spc="-1" strike="noStrike">
              <a:solidFill>
                <a:srgbClr val="262626"/>
              </a:solidFill>
              <a:latin typeface="Calibri"/>
            </a:endParaRPr>
          </a:p>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nd from a man named Jim who popped the balloon of that response.</a:t>
            </a:r>
            <a:endParaRPr b="0" lang="en-US" sz="2600" spc="-1" strike="noStrike">
              <a:solidFill>
                <a:srgbClr val="262626"/>
              </a:solidFill>
              <a:latin typeface="Calibri"/>
            </a:endParaRPr>
          </a:p>
          <a:p>
            <a:pPr marL="91116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785"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Moving Forward…….</a:t>
            </a:r>
            <a:endParaRPr b="0" lang="en-US" sz="4200" spc="-1" strike="noStrike">
              <a:solidFill>
                <a:srgbClr val="ffffff"/>
              </a:solidFill>
              <a:latin typeface="Corbel"/>
            </a:endParaRPr>
          </a:p>
        </p:txBody>
      </p:sp>
      <p:sp>
        <p:nvSpPr>
          <p:cNvPr id="837" name=""/>
          <p:cNvSpPr txBox="1"/>
          <p:nvPr/>
        </p:nvSpPr>
        <p:spPr>
          <a:xfrm>
            <a:off x="283680" y="1868040"/>
            <a:ext cx="8574120" cy="42577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tizens Project has begun replicating in different communities meeting the needs of a variety of venues and service populations.</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cut Valley Hospital</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 Haven Mental Health YAS Program</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 Jails and Prisons</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real, Canada</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asgow, Scotland</a:t>
            </a:r>
            <a:endParaRPr b="0" lang="en-US" sz="2800" spc="-1" strike="noStrike">
              <a:solidFill>
                <a:srgbClr val="262626"/>
              </a:solidFill>
              <a:latin typeface="Calibri"/>
            </a:endParaRPr>
          </a:p>
          <a:p>
            <a:pPr>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itizenship, Mental Health, &amp; the Citizens Project</a:t>
            </a:r>
            <a:endParaRPr b="0" lang="en-US" sz="3200" spc="-1" strike="noStrike">
              <a:solidFill>
                <a:srgbClr val="ffffff"/>
              </a:solidFill>
              <a:latin typeface="Corbel"/>
            </a:endParaRPr>
          </a:p>
        </p:txBody>
      </p:sp>
      <p:sp>
        <p:nvSpPr>
          <p:cNvPr id="839" name=""/>
          <p:cNvSpPr txBox="1"/>
          <p:nvPr/>
        </p:nvSpPr>
        <p:spPr>
          <a:xfrm>
            <a:off x="1889280" y="2133720"/>
            <a:ext cx="707688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ank you! </a:t>
            </a: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Questions? </a:t>
            </a:r>
            <a:endParaRPr b="0" lang="en-US" sz="2800" spc="-1" strike="noStrike">
              <a:solidFill>
                <a:srgbClr val="262626"/>
              </a:solidFill>
              <a:latin typeface="Calibri"/>
            </a:endParaRPr>
          </a:p>
        </p:txBody>
      </p:sp>
      <p:pic>
        <p:nvPicPr>
          <p:cNvPr id="840"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ferences </a:t>
            </a:r>
            <a:endParaRPr b="0" lang="en-US" sz="3600" spc="-1" strike="noStrike">
              <a:solidFill>
                <a:srgbClr val="ffffff"/>
              </a:solidFill>
              <a:latin typeface="Corbel"/>
            </a:endParaRPr>
          </a:p>
        </p:txBody>
      </p:sp>
      <p:sp>
        <p:nvSpPr>
          <p:cNvPr id="842" name=""/>
          <p:cNvSpPr txBox="1"/>
          <p:nvPr/>
        </p:nvSpPr>
        <p:spPr>
          <a:xfrm>
            <a:off x="284040" y="1782360"/>
            <a:ext cx="8283600" cy="4691160"/>
          </a:xfrm>
          <a:prstGeom prst="rect">
            <a:avLst/>
          </a:prstGeom>
          <a:noFill/>
          <a:ln w="0">
            <a:noFill/>
          </a:ln>
        </p:spPr>
        <p:txBody>
          <a:bodyPr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a:t>
            </a:r>
            <a:r>
              <a:rPr b="0" i="1" lang="en-US" sz="1500" spc="-1" strike="noStrike">
                <a:solidFill>
                  <a:srgbClr val="262626"/>
                </a:solidFill>
                <a:latin typeface="Calibri"/>
              </a:rPr>
              <a:t>Crossing the border: Encounters between homeless people and outreach workers</a:t>
            </a:r>
            <a:r>
              <a:rPr b="0" lang="en-US" sz="1500" spc="-1" strike="noStrike">
                <a:solidFill>
                  <a:srgbClr val="262626"/>
                </a:solidFill>
                <a:latin typeface="Calibri"/>
              </a:rPr>
              <a:t>. Berkeley: University of California Press, 1999.</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Kloos B, Chinman M, Davidson L &amp; Cross AB. Homelessness, mental illness, and citizenship. </a:t>
            </a:r>
            <a:r>
              <a:rPr b="0" i="1" lang="en-US" sz="1500" spc="-1" strike="noStrike">
                <a:solidFill>
                  <a:srgbClr val="262626"/>
                </a:solidFill>
                <a:latin typeface="Calibri"/>
              </a:rPr>
              <a:t>Social Policy and Administration,</a:t>
            </a:r>
            <a:r>
              <a:rPr b="0" lang="en-US" sz="1500" spc="-1" strike="noStrike">
                <a:solidFill>
                  <a:srgbClr val="262626"/>
                </a:solidFill>
                <a:latin typeface="Calibri"/>
              </a:rPr>
              <a:t> 2001, 35 (1), 14-31.</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Benedict P, Sells D, Dinzeo T, Garvin C, Schwab L, Baranoski M, Girard V, Bellamy C. Citizenship, community, and recovery: A Group- and peer-based intervention for persons with co-occurring disorders and criminal justice histories. </a:t>
            </a:r>
            <a:r>
              <a:rPr b="0" i="1" lang="en-US" sz="1500" spc="-1" strike="noStrike">
                <a:solidFill>
                  <a:srgbClr val="262626"/>
                </a:solidFill>
                <a:latin typeface="Calibri"/>
              </a:rPr>
              <a:t>Journal for Groups in Addiction and Recovery</a:t>
            </a:r>
            <a:r>
              <a:rPr b="0" lang="en-US" sz="1500" spc="-1" strike="noStrike">
                <a:solidFill>
                  <a:srgbClr val="262626"/>
                </a:solidFill>
                <a:latin typeface="Calibri"/>
              </a:rPr>
              <a:t>, 2009, 4 (4),  224-244.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Clayton, O’Connell et al. Going to the source: Citizenship outcome measure development. </a:t>
            </a:r>
            <a:r>
              <a:rPr b="0" i="1" lang="en-US" sz="1500" spc="-1" strike="noStrike">
                <a:solidFill>
                  <a:srgbClr val="262626"/>
                </a:solidFill>
                <a:latin typeface="Calibri"/>
              </a:rPr>
              <a:t>Psychiatric Services </a:t>
            </a:r>
            <a:r>
              <a:rPr b="0" lang="en-US" sz="1500" spc="-1" strike="noStrike">
                <a:solidFill>
                  <a:srgbClr val="262626"/>
                </a:solidFill>
                <a:latin typeface="Calibri"/>
              </a:rPr>
              <a:t>2012, 63: 45-50</a:t>
            </a:r>
            <a:r>
              <a:rPr b="0" i="1" lang="en-US" sz="1500" spc="-1" strike="noStrike">
                <a:solidFill>
                  <a:srgbClr val="262626"/>
                </a:solidFill>
                <a:latin typeface="Calibri"/>
              </a:rPr>
              <a:t>.</a:t>
            </a:r>
            <a:r>
              <a:rPr b="0" lang="en-US" sz="1500" spc="-1" strike="noStrike">
                <a:solidFill>
                  <a:srgbClr val="262626"/>
                </a:solidFill>
                <a:latin typeface="Calibri"/>
              </a:rPr>
              <a:t>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Clayton, A., M.J. O’Connell, C. Bellamy, P. Benedict, and M. Rowe. The citizenship project, part II: Impact of a citizenship intervention on clinical and community outcomes for persons with mental illness and criminal justice charges. </a:t>
            </a:r>
            <a:r>
              <a:rPr b="0" i="1" lang="en-US" sz="1500" spc="-1" strike="noStrike">
                <a:solidFill>
                  <a:srgbClr val="262626"/>
                </a:solidFill>
                <a:latin typeface="Calibri"/>
              </a:rPr>
              <a:t>American Journal of Community Psychology </a:t>
            </a:r>
            <a:r>
              <a:rPr b="0" lang="en-US" sz="1500" spc="-1" strike="noStrike">
                <a:solidFill>
                  <a:srgbClr val="262626"/>
                </a:solidFill>
                <a:latin typeface="Calibri"/>
              </a:rPr>
              <a:t>2013, 51: 114-22.</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a:t>
            </a:r>
            <a:r>
              <a:rPr b="0" i="1" lang="en-US" sz="1500" spc="-1" strike="noStrike">
                <a:solidFill>
                  <a:srgbClr val="262626"/>
                </a:solidFill>
                <a:latin typeface="Calibri"/>
              </a:rPr>
              <a:t>Citizenship and mental health. NY: Oxford University Press, 2015.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Ponce, A.N. &amp; M. Rowe. Citizenship and community mental health care. </a:t>
            </a:r>
            <a:r>
              <a:rPr b="0" i="1" lang="en-US" sz="1500" spc="-1" strike="noStrike">
                <a:solidFill>
                  <a:srgbClr val="262626"/>
                </a:solidFill>
                <a:latin typeface="Calibri"/>
              </a:rPr>
              <a:t>American Journal of Community Psychology</a:t>
            </a:r>
            <a:r>
              <a:rPr b="0" lang="en-US" sz="1500" spc="-1" strike="noStrike">
                <a:solidFill>
                  <a:srgbClr val="262626"/>
                </a:solidFill>
                <a:latin typeface="Calibri"/>
              </a:rPr>
              <a:t>, 2018, 61, 22-31.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Hamer, H. M. Rowe, C. Seymour. Social inclusion, mental health service users and citizenship “The right thing to do”: Fostering social inclusion for mental health service users through acts of citizenship. </a:t>
            </a:r>
            <a:r>
              <a:rPr b="0" i="1" lang="en-US" sz="1500" spc="-1" strike="noStrike">
                <a:solidFill>
                  <a:srgbClr val="262626"/>
                </a:solidFill>
                <a:latin typeface="Calibri"/>
              </a:rPr>
              <a:t>International Journal of Mental Health Nursing</a:t>
            </a:r>
            <a:r>
              <a:rPr b="0" lang="en-US" sz="1500" spc="-1" strike="noStrike">
                <a:solidFill>
                  <a:srgbClr val="262626"/>
                </a:solidFill>
                <a:latin typeface="Calibri"/>
              </a:rPr>
              <a:t>. 2018, DOI: 10.1111/inm.12533</a:t>
            </a:r>
            <a:endParaRPr b="0" lang="en-US" sz="15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Where Did Citizenship Come From? </a:t>
            </a:r>
            <a:endParaRPr b="0" lang="en-US" sz="3400" spc="-1" strike="noStrike">
              <a:solidFill>
                <a:srgbClr val="ffffff"/>
              </a:solidFill>
              <a:latin typeface="Corbel"/>
            </a:endParaRPr>
          </a:p>
        </p:txBody>
      </p:sp>
      <p:sp>
        <p:nvSpPr>
          <p:cNvPr id="787" name=""/>
          <p:cNvSpPr txBox="1"/>
          <p:nvPr/>
        </p:nvSpPr>
        <p:spPr>
          <a:xfrm>
            <a:off x="604800" y="2011320"/>
            <a:ext cx="6305760" cy="3975120"/>
          </a:xfrm>
          <a:prstGeom prst="rect">
            <a:avLst/>
          </a:prstGeom>
          <a:noFill/>
          <a:ln w="0">
            <a:noFill/>
          </a:ln>
        </p:spPr>
        <p:txBody>
          <a:bodyPr anchor="t">
            <a:normAutofit fontScale="99000"/>
          </a:bodyPr>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re were two related parts to the programmatic response to homelessness and mental distress:</a:t>
            </a:r>
            <a:endParaRPr b="0" lang="en-US" sz="2800" spc="-1" strike="noStrike">
              <a:solidFill>
                <a:srgbClr val="262626"/>
              </a:solidFill>
              <a:latin typeface="Calibri"/>
            </a:endParaRPr>
          </a:p>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One was integrated, “No wrong door” mental health systems of care with an array of services for people with complicated needs. </a:t>
            </a:r>
            <a:endParaRPr b="0" lang="en-US" sz="2800" spc="-1" strike="noStrike">
              <a:solidFill>
                <a:srgbClr val="262626"/>
              </a:solidFill>
              <a:latin typeface="Calibri"/>
            </a:endParaRPr>
          </a:p>
        </p:txBody>
      </p:sp>
      <p:pic>
        <p:nvPicPr>
          <p:cNvPr id="788"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Core System Response: “Homeless Outreach”</a:t>
            </a:r>
            <a:endParaRPr b="0" lang="en-US" sz="3400" spc="-1" strike="noStrike">
              <a:solidFill>
                <a:srgbClr val="ffffff"/>
              </a:solidFill>
              <a:latin typeface="Corbel"/>
            </a:endParaRPr>
          </a:p>
        </p:txBody>
      </p:sp>
      <p:sp>
        <p:nvSpPr>
          <p:cNvPr id="790" name=""/>
          <p:cNvSpPr txBox="1"/>
          <p:nvPr/>
        </p:nvSpPr>
        <p:spPr>
          <a:xfrm>
            <a:off x="604800" y="2011320"/>
            <a:ext cx="6305760" cy="3975120"/>
          </a:xfrm>
          <a:prstGeom prst="rect">
            <a:avLst/>
          </a:prstGeom>
          <a:noFill/>
          <a:ln w="0">
            <a:noFill/>
          </a:ln>
        </p:spPr>
        <p:txBody>
          <a:bodyPr anchor="t">
            <a:normAutofit/>
          </a:bodyPr>
          <a:p>
            <a:pPr marL="45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62626"/>
                </a:solidFill>
                <a:latin typeface="Calibri"/>
              </a:rPr>
              <a:t>The other was mental health outreach (“Homeless outreach”) </a:t>
            </a:r>
            <a:endParaRPr b="0" lang="en-US" sz="26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No expectation of “motivation for treatment</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Leave the office to find and make contact with the person not the patient</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Build trust, working at the person’s pace</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Build on the person’s strengths</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Client choice among and array of services</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The Golden Rule of outreach</a:t>
            </a:r>
            <a:endParaRPr b="0" lang="en-US" sz="2500" spc="-1" strike="noStrike">
              <a:solidFill>
                <a:srgbClr val="262626"/>
              </a:solidFill>
              <a:latin typeface="Calibri"/>
            </a:endParaRPr>
          </a:p>
          <a:p>
            <a:pPr marL="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p:txBody>
      </p:sp>
      <p:pic>
        <p:nvPicPr>
          <p:cNvPr id="791"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3" name=""/>
          <p:cNvSpPr txBox="1"/>
          <p:nvPr/>
        </p:nvSpPr>
        <p:spPr>
          <a:xfrm>
            <a:off x="47772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IT WORKED!</a:t>
            </a:r>
            <a:endParaRPr b="0" lang="en-US" sz="2800" spc="-1" strike="noStrike">
              <a:solidFill>
                <a:srgbClr val="262626"/>
              </a:solidFill>
              <a:latin typeface="Calibri"/>
            </a:endParaRPr>
          </a:p>
        </p:txBody>
      </p:sp>
      <p:pic>
        <p:nvPicPr>
          <p:cNvPr id="794" name="Picture 10" descr="citizenship image .jpg"/>
          <p:cNvPicPr/>
          <p:nvPr/>
        </p:nvPicPr>
        <p:blipFill>
          <a:blip r:embed="rId1"/>
          <a:srcRect l="46175" t="0" r="0" b="0"/>
          <a:stretch/>
        </p:blipFill>
        <p:spPr>
          <a:xfrm>
            <a:off x="4856040" y="1763640"/>
            <a:ext cx="1927440" cy="48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6" name=""/>
          <p:cNvSpPr txBox="1"/>
          <p:nvPr/>
        </p:nvSpPr>
        <p:spPr>
          <a:xfrm>
            <a:off x="60480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ntil it didn’t</a:t>
            </a:r>
            <a:endParaRPr b="0" lang="en-US" sz="2800" spc="-1" strike="noStrike">
              <a:solidFill>
                <a:srgbClr val="262626"/>
              </a:solidFill>
              <a:latin typeface="Calibri"/>
            </a:endParaRPr>
          </a:p>
        </p:txBody>
      </p:sp>
      <p:pic>
        <p:nvPicPr>
          <p:cNvPr id="797" name="Picture 10" descr="citizenship image .jpg"/>
          <p:cNvPicPr/>
          <p:nvPr/>
        </p:nvPicPr>
        <p:blipFill>
          <a:blip r:embed="rId1"/>
          <a:srcRect l="46175" t="0" r="0" b="0"/>
          <a:stretch/>
        </p:blipFill>
        <p:spPr>
          <a:xfrm>
            <a:off x="7591320" y="2811600"/>
            <a:ext cx="1266840" cy="317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9" name=""/>
          <p:cNvSpPr txBox="1"/>
          <p:nvPr/>
        </p:nvSpPr>
        <p:spPr>
          <a:xfrm>
            <a:off x="60480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Jim’s Story, and Ron’s</a:t>
            </a:r>
            <a:endParaRPr b="0" lang="en-US" sz="2800" spc="-1" strike="noStrike">
              <a:solidFill>
                <a:srgbClr val="262626"/>
              </a:solidFill>
              <a:latin typeface="Calibri"/>
            </a:endParaRPr>
          </a:p>
        </p:txBody>
      </p:sp>
      <p:pic>
        <p:nvPicPr>
          <p:cNvPr id="800"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Hitting the wall with Jim (and others) </a:t>
            </a:r>
            <a:endParaRPr b="0" lang="en-US" sz="3600" spc="-1" strike="noStrike">
              <a:solidFill>
                <a:srgbClr val="ffffff"/>
              </a:solidFill>
              <a:latin typeface="Corbel"/>
            </a:endParaRPr>
          </a:p>
        </p:txBody>
      </p:sp>
      <p:sp>
        <p:nvSpPr>
          <p:cNvPr id="802" name=""/>
          <p:cNvSpPr txBox="1"/>
          <p:nvPr/>
        </p:nvSpPr>
        <p:spPr>
          <a:xfrm>
            <a:off x="1781280" y="2133720"/>
            <a:ext cx="7076880" cy="3992400"/>
          </a:xfrm>
          <a:prstGeom prst="rect">
            <a:avLst/>
          </a:prstGeom>
          <a:noFill/>
          <a:ln w="0">
            <a:noFill/>
          </a:ln>
        </p:spPr>
        <p:txBody>
          <a:bodyPr anchor="t">
            <a:normAutofit/>
          </a:bodyPr>
          <a:p>
            <a:pPr marL="453960" indent="-453960">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e could do lots of things for people who were homeless: provide mental health and medical care, person to person case  management, access to income, and housing, and more.</a:t>
            </a:r>
            <a:endParaRPr b="0" lang="en-US" sz="2600" spc="-1" strike="noStrike">
              <a:solidFill>
                <a:srgbClr val="262626"/>
              </a:solidFill>
              <a:latin typeface="Calibri"/>
            </a:endParaRPr>
          </a:p>
          <a:p>
            <a:pPr marL="453960" indent="-453960">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at we could not do is provide people who were homeless with the status of being neighbors in their neighborhood, full participating members of their communities, and full citizens of society. </a:t>
            </a:r>
            <a:endParaRPr b="0" lang="en-US" sz="2600" spc="-1" strike="noStrike">
              <a:solidFill>
                <a:srgbClr val="262626"/>
              </a:solidFill>
              <a:latin typeface="Calibri"/>
            </a:endParaRPr>
          </a:p>
        </p:txBody>
      </p:sp>
      <p:pic>
        <p:nvPicPr>
          <p:cNvPr id="803" name="Picture 4" descr="flier (1) .jpg"/>
          <p:cNvPicPr/>
          <p:nvPr/>
        </p:nvPicPr>
        <p:blipFill>
          <a:blip r:embed="rId1"/>
          <a:srcRect l="19398" t="0" r="32164" b="0"/>
          <a:stretch/>
        </p:blipFill>
        <p:spPr>
          <a:xfrm>
            <a:off x="277920" y="1752480"/>
            <a:ext cx="1541520" cy="46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re does citizenship come from?</a:t>
            </a:r>
            <a:endParaRPr b="0" lang="en-US" sz="3600" spc="-1" strike="noStrike">
              <a:solidFill>
                <a:srgbClr val="ffffff"/>
              </a:solidFill>
              <a:latin typeface="Corbel"/>
            </a:endParaRPr>
          </a:p>
        </p:txBody>
      </p:sp>
      <p:sp>
        <p:nvSpPr>
          <p:cNvPr id="805" name=""/>
          <p:cNvSpPr txBox="1"/>
          <p:nvPr/>
        </p:nvSpPr>
        <p:spPr>
          <a:xfrm>
            <a:off x="1704960" y="1752120"/>
            <a:ext cx="6981840" cy="4373640"/>
          </a:xfrm>
          <a:prstGeom prst="rect">
            <a:avLst/>
          </a:prstGeom>
          <a:noFill/>
          <a:ln w="0">
            <a:noFill/>
          </a:ln>
        </p:spPr>
        <p:txBody>
          <a:bodyPr anchor="t">
            <a:normAutofit/>
          </a:bodyPr>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e could provide ‘Program Citizenship’ within systems of care. We could not offer our clients full participating citizenship. </a:t>
            </a: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06" name="Picture 4" descr="flier (1) .jpg"/>
          <p:cNvPicPr/>
          <p:nvPr/>
        </p:nvPicPr>
        <p:blipFill>
          <a:blip r:embed="rId1"/>
          <a:srcRect l="19398" t="0" r="32164" b="0"/>
          <a:stretch/>
        </p:blipFill>
        <p:spPr>
          <a:xfrm>
            <a:off x="277920" y="1752480"/>
            <a:ext cx="1541520" cy="46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7:59:04Z</dcterms:created>
  <dc:creator>Ashley Clayton</dc:creator>
  <dc:description/>
  <dc:language>en-US</dc:language>
  <cp:lastModifiedBy>support it</cp:lastModifiedBy>
  <cp:lastPrinted>2018-10-24T18:29:31Z</cp:lastPrinted>
  <dcterms:modified xsi:type="dcterms:W3CDTF">2018-10-31T19:46:30Z</dcterms:modified>
  <cp:revision>148</cp:revision>
  <dc:subject/>
  <dc:title>Title</dc:title>
</cp:coreProperties>
</file>